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8E1A-4B1B-43BF-B1E2-5508AEFC2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27EF-669F-460F-9AB8-304D01ED5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A233-1DBE-4D94-A0DB-132AB6040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0BA3-60A4-4921-9921-F104F62DB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F80F-E05A-4C17-A90A-3695166E1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4C0B-EDAD-48CA-BCCE-88398E132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9BF4-9EFD-4DD5-8672-712C9EDBF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FB2-E9EE-4915-A75B-690FC1BD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AAA-ECDF-446D-9B2E-454D21DB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190-1226-4DF7-B9F8-DB512E79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0E6-4498-4581-B1AA-32F6702A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96B-9078-4941-A580-9C407E1A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919-8124-4C1A-A435-B762FC61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ED9-3648-47E9-9DCB-08D67830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A0F-B981-4D2B-BA55-299606AC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EB2-391E-4009-900D-335B1985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ED4-A16C-4A6F-95B4-8D41A55D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A79-B1DE-4A9C-8D9A-F4ADDD6C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823-9D7A-4D85-AE1C-78455C00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700F-B554-4308-BEED-4A873D5EDF6E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Solving Multiplication and Division Equations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olving for variable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Procedur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42b"/>
                </a:solidFill>
                <a:latin typeface="Trebuchet MS"/>
              </a:rPr>
              <a:t>Isolate the variable by performing the inverse operation on the number that is attached to the variable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42b"/>
                </a:solidFill>
                <a:latin typeface="Trebuchet MS"/>
              </a:rPr>
              <a:t>The inverse of multiplication is division.  The inverse of division is multiplication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42b"/>
                </a:solidFill>
                <a:latin typeface="Trebuchet MS"/>
              </a:rPr>
              <a:t>Use the “Golden Rule.”  Perform the same operation on the other side of the equal sign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Exampl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971800" y="16002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 ÷ 3 = 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8600" y="1981080"/>
            <a:ext cx="2209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erse of division is multi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809880" y="22860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x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3581280"/>
            <a:ext cx="228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the operation on the othe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410080" y="227016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x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3429000" y="3581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276720" y="3809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4800600" y="3809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638680" y="3733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heck. Use the original equation.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8120" y="173664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 ÷ 3 = 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895480" y="265104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0 ÷ 3 = 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114800" y="34290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 = 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Example 2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971800" y="16002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b = 1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2280" y="1447920"/>
            <a:ext cx="228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erse of multiplying is divi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743200" y="23623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÷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648320" y="227016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÷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819520" y="3581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505320" y="342900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91440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914400" y="3352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914400" y="3200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380880" y="3260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295280" y="2514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1295280" y="37940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99072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838080" y="4648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295280" y="4403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19810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676520" y="4403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1676520" y="2514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1295280" y="493704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9144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838080" y="5867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1600200" y="56991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876920" y="3429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heck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971800" y="16002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b = 1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33720" y="234648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(15) = 1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666880" y="3124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5 = 1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1:31:09Z</dcterms:created>
  <dc:creator>Josh Hammond</dc:creator>
  <dc:description/>
  <dc:language>en-US</dc:language>
  <cp:lastModifiedBy>Home</cp:lastModifiedBy>
  <dcterms:modified xsi:type="dcterms:W3CDTF">2010-11-14T16:58:33Z</dcterms:modified>
  <cp:revision>10</cp:revision>
  <dc:subject/>
  <dc:title>Solving Multiplication and Division Equations</dc:title>
</cp:coreProperties>
</file>